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9D4-94E2-43A6-A007-4670B8E6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8F1-1F45-4467-89CC-960D54D6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587-CDA2-49E8-A8B4-C9B1F52B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E6E-D4C1-4D77-9B70-44BBA67F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634-A7C0-4FDC-A26B-BAAFFB9C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1FA-2AD7-4034-90B4-35F3ACE2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19F-452B-48F5-85C9-75F6299D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055-B99F-4F68-80E8-FE3D4598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CD3-1D26-40CF-B40F-4208A464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DE5-DF4F-48F2-A667-E08B5FB5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42C-BA09-470B-ACCD-32D3E13C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B3B-CB8E-4C35-BF8F-E0EBD0F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632F-7537-4414-B8A5-5CFE4F83F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otland Schie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pho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1908000"/>
            <a:ext cx="4572000" cy="304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ee Choic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247760"/>
            <a:ext cx="86104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C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191120" cy="297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419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257800" cy="348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4181400" cy="276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62720" y="13716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88620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4111560" cy="2712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267080" y="380880"/>
            <a:ext cx="4724640" cy="3103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52280" y="3657600"/>
            <a:ext cx="4572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4800600" cy="301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800600" cy="3163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038840" cy="265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05520" y="609480"/>
            <a:ext cx="40384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inting with Ligh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5520" cy="3932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ner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027320" cy="5410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ee Choic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53280" cy="5330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ghting with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4384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ul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gital Water D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350040" cy="3073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ner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62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o get this shot, I used studio lighting against a white wall. I felt like this focused all the attention on the photos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843360" cy="4724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20:32:07Z</dcterms:created>
  <dc:creator>bal_sfschieber</dc:creator>
  <dc:description/>
  <dc:language>en-US</dc:language>
  <cp:lastModifiedBy>bal_sfschieber</cp:lastModifiedBy>
  <dcterms:modified xsi:type="dcterms:W3CDTF">2009-05-15T20:19:57Z</dcterms:modified>
  <cp:revision>8</cp:revision>
  <dc:subject/>
  <dc:title>Scotland Schieber</dc:title>
</cp:coreProperties>
</file>